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4AB-37F8-4495-9F14-C001DDE7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1D3-4958-45A5-957C-6FDB6C2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191-F057-4B1F-B99C-EF81CD40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968-7F55-4C59-AABE-F60A09BB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F57-906D-4F1F-AEBD-E0E71655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AD8-3599-404C-A787-EA88DFC3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B1F-7A33-410E-9FB9-0D8E561B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9D1-7996-4309-8CFA-CD01CF13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DC3-D62A-472F-89AD-7DB96F0C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EA5-4989-4385-91E5-7579399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A3F-951C-4C09-AB32-9BFDB65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18A-3A89-43CC-8EEC-5051E3C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8AED-9F06-415A-A87B-7BB0B60D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33200" y="131760"/>
            <a:ext cx="7113600" cy="6715080"/>
            <a:chOff x="1033200" y="131760"/>
            <a:chExt cx="7113600" cy="6715080"/>
          </a:xfrm>
        </p:grpSpPr>
        <p:sp>
          <p:nvSpPr>
            <p:cNvPr id="42" name=""/>
            <p:cNvSpPr/>
            <p:nvPr/>
          </p:nvSpPr>
          <p:spPr>
            <a:xfrm>
              <a:off x="2724120" y="2116080"/>
              <a:ext cx="4149720" cy="4146480"/>
            </a:xfrm>
            <a:custGeom>
              <a:avLst/>
              <a:gdLst/>
              <a:ahLst/>
              <a:rect l="l" t="t" r="r" b="b"/>
              <a:pathLst>
                <a:path w="2614" h="2612">
                  <a:moveTo>
                    <a:pt x="1317" y="0"/>
                  </a:moveTo>
                  <a:lnTo>
                    <a:pt x="1201" y="3"/>
                  </a:lnTo>
                  <a:lnTo>
                    <a:pt x="1084" y="16"/>
                  </a:lnTo>
                  <a:lnTo>
                    <a:pt x="971" y="42"/>
                  </a:lnTo>
                  <a:lnTo>
                    <a:pt x="858" y="77"/>
                  </a:lnTo>
                  <a:lnTo>
                    <a:pt x="752" y="122"/>
                  </a:lnTo>
                  <a:lnTo>
                    <a:pt x="649" y="177"/>
                  </a:lnTo>
                  <a:lnTo>
                    <a:pt x="549" y="239"/>
                  </a:lnTo>
                  <a:lnTo>
                    <a:pt x="458" y="313"/>
                  </a:lnTo>
                  <a:lnTo>
                    <a:pt x="371" y="390"/>
                  </a:lnTo>
                  <a:lnTo>
                    <a:pt x="294" y="478"/>
                  </a:lnTo>
                  <a:lnTo>
                    <a:pt x="226" y="571"/>
                  </a:lnTo>
                  <a:lnTo>
                    <a:pt x="165" y="671"/>
                  </a:lnTo>
                  <a:lnTo>
                    <a:pt x="110" y="778"/>
                  </a:lnTo>
                  <a:lnTo>
                    <a:pt x="68" y="885"/>
                  </a:lnTo>
                  <a:lnTo>
                    <a:pt x="35" y="998"/>
                  </a:lnTo>
                  <a:lnTo>
                    <a:pt x="13" y="1114"/>
                  </a:lnTo>
                  <a:lnTo>
                    <a:pt x="3" y="1230"/>
                  </a:lnTo>
                  <a:lnTo>
                    <a:pt x="0" y="1346"/>
                  </a:lnTo>
                  <a:lnTo>
                    <a:pt x="10" y="1463"/>
                  </a:lnTo>
                  <a:lnTo>
                    <a:pt x="29" y="1579"/>
                  </a:lnTo>
                  <a:lnTo>
                    <a:pt x="58" y="1692"/>
                  </a:lnTo>
                  <a:lnTo>
                    <a:pt x="97" y="1802"/>
                  </a:lnTo>
                  <a:lnTo>
                    <a:pt x="145" y="1908"/>
                  </a:lnTo>
                  <a:lnTo>
                    <a:pt x="203" y="2008"/>
                  </a:lnTo>
                  <a:lnTo>
                    <a:pt x="271" y="2105"/>
                  </a:lnTo>
                  <a:lnTo>
                    <a:pt x="345" y="2193"/>
                  </a:lnTo>
                  <a:lnTo>
                    <a:pt x="429" y="2277"/>
                  </a:lnTo>
                  <a:lnTo>
                    <a:pt x="520" y="2351"/>
                  </a:lnTo>
                  <a:lnTo>
                    <a:pt x="616" y="2415"/>
                  </a:lnTo>
                  <a:lnTo>
                    <a:pt x="720" y="2474"/>
                  </a:lnTo>
                  <a:lnTo>
                    <a:pt x="826" y="2522"/>
                  </a:lnTo>
                  <a:lnTo>
                    <a:pt x="936" y="2561"/>
                  </a:lnTo>
                  <a:lnTo>
                    <a:pt x="1049" y="2587"/>
                  </a:lnTo>
                  <a:lnTo>
                    <a:pt x="1165" y="2606"/>
                  </a:lnTo>
                  <a:lnTo>
                    <a:pt x="1281" y="2612"/>
                  </a:lnTo>
                  <a:lnTo>
                    <a:pt x="1398" y="2609"/>
                  </a:lnTo>
                  <a:lnTo>
                    <a:pt x="1514" y="2596"/>
                  </a:lnTo>
                  <a:lnTo>
                    <a:pt x="1627" y="2574"/>
                  </a:lnTo>
                  <a:lnTo>
                    <a:pt x="1740" y="2538"/>
                  </a:lnTo>
                  <a:lnTo>
                    <a:pt x="1849" y="2496"/>
                  </a:lnTo>
                  <a:lnTo>
                    <a:pt x="1953" y="2441"/>
                  </a:lnTo>
                  <a:lnTo>
                    <a:pt x="2053" y="2380"/>
                  </a:lnTo>
                  <a:lnTo>
                    <a:pt x="2143" y="2309"/>
                  </a:lnTo>
                  <a:lnTo>
                    <a:pt x="2230" y="2231"/>
                  </a:lnTo>
                  <a:lnTo>
                    <a:pt x="2308" y="2144"/>
                  </a:lnTo>
                  <a:lnTo>
                    <a:pt x="2379" y="2050"/>
                  </a:lnTo>
                  <a:lnTo>
                    <a:pt x="2443" y="1950"/>
                  </a:lnTo>
                  <a:lnTo>
                    <a:pt x="2495" y="1847"/>
                  </a:lnTo>
                  <a:lnTo>
                    <a:pt x="2540" y="1740"/>
                  </a:lnTo>
                  <a:lnTo>
                    <a:pt x="2572" y="1627"/>
                  </a:lnTo>
                  <a:lnTo>
                    <a:pt x="2595" y="1514"/>
                  </a:lnTo>
                  <a:lnTo>
                    <a:pt x="2611" y="1398"/>
                  </a:lnTo>
                  <a:lnTo>
                    <a:pt x="2614" y="1279"/>
                  </a:lnTo>
                  <a:lnTo>
                    <a:pt x="2605" y="1162"/>
                  </a:lnTo>
                  <a:lnTo>
                    <a:pt x="2589" y="1046"/>
                  </a:lnTo>
                  <a:lnTo>
                    <a:pt x="2560" y="933"/>
                  </a:lnTo>
                  <a:lnTo>
                    <a:pt x="2521" y="823"/>
                  </a:lnTo>
                  <a:lnTo>
                    <a:pt x="2472" y="717"/>
                  </a:lnTo>
                  <a:lnTo>
                    <a:pt x="2417" y="617"/>
                  </a:lnTo>
                  <a:lnTo>
                    <a:pt x="2350" y="520"/>
                  </a:lnTo>
                  <a:lnTo>
                    <a:pt x="2275" y="429"/>
                  </a:lnTo>
                  <a:lnTo>
                    <a:pt x="2195" y="345"/>
                  </a:lnTo>
                  <a:lnTo>
                    <a:pt x="2104" y="271"/>
                  </a:lnTo>
                  <a:lnTo>
                    <a:pt x="2008" y="203"/>
                  </a:lnTo>
                  <a:lnTo>
                    <a:pt x="1907" y="145"/>
                  </a:lnTo>
                  <a:lnTo>
                    <a:pt x="1801" y="97"/>
                  </a:lnTo>
                  <a:lnTo>
                    <a:pt x="1691" y="55"/>
                  </a:lnTo>
                  <a:lnTo>
                    <a:pt x="1578" y="26"/>
                  </a:lnTo>
                  <a:lnTo>
                    <a:pt x="1462" y="6"/>
                  </a:lnTo>
                  <a:lnTo>
                    <a:pt x="1346" y="0"/>
                  </a:lnTo>
                  <a:lnTo>
                    <a:pt x="1320" y="0"/>
                  </a:lnTo>
                  <a:lnTo>
                    <a:pt x="1320" y="26"/>
                  </a:lnTo>
                  <a:lnTo>
                    <a:pt x="1433" y="32"/>
                  </a:lnTo>
                  <a:lnTo>
                    <a:pt x="1546" y="48"/>
                  </a:lnTo>
                  <a:lnTo>
                    <a:pt x="1659" y="74"/>
                  </a:lnTo>
                  <a:lnTo>
                    <a:pt x="1765" y="113"/>
                  </a:lnTo>
                  <a:lnTo>
                    <a:pt x="1872" y="158"/>
                  </a:lnTo>
                  <a:lnTo>
                    <a:pt x="1972" y="213"/>
                  </a:lnTo>
                  <a:lnTo>
                    <a:pt x="2066" y="277"/>
                  </a:lnTo>
                  <a:lnTo>
                    <a:pt x="2156" y="348"/>
                  </a:lnTo>
                  <a:lnTo>
                    <a:pt x="2237" y="429"/>
                  </a:lnTo>
                  <a:lnTo>
                    <a:pt x="2311" y="513"/>
                  </a:lnTo>
                  <a:lnTo>
                    <a:pt x="2379" y="607"/>
                  </a:lnTo>
                  <a:lnTo>
                    <a:pt x="2437" y="707"/>
                  </a:lnTo>
                  <a:lnTo>
                    <a:pt x="2485" y="810"/>
                  </a:lnTo>
                  <a:lnTo>
                    <a:pt x="2524" y="917"/>
                  </a:lnTo>
                  <a:lnTo>
                    <a:pt x="2556" y="1027"/>
                  </a:lnTo>
                  <a:lnTo>
                    <a:pt x="2576" y="1140"/>
                  </a:lnTo>
                  <a:lnTo>
                    <a:pt x="2585" y="1256"/>
                  </a:lnTo>
                  <a:lnTo>
                    <a:pt x="2585" y="1369"/>
                  </a:lnTo>
                  <a:lnTo>
                    <a:pt x="2572" y="1482"/>
                  </a:lnTo>
                  <a:lnTo>
                    <a:pt x="2553" y="1595"/>
                  </a:lnTo>
                  <a:lnTo>
                    <a:pt x="2521" y="1705"/>
                  </a:lnTo>
                  <a:lnTo>
                    <a:pt x="2482" y="1811"/>
                  </a:lnTo>
                  <a:lnTo>
                    <a:pt x="2430" y="1915"/>
                  </a:lnTo>
                  <a:lnTo>
                    <a:pt x="2372" y="2015"/>
                  </a:lnTo>
                  <a:lnTo>
                    <a:pt x="2305" y="2105"/>
                  </a:lnTo>
                  <a:lnTo>
                    <a:pt x="2230" y="2193"/>
                  </a:lnTo>
                  <a:lnTo>
                    <a:pt x="2146" y="2270"/>
                  </a:lnTo>
                  <a:lnTo>
                    <a:pt x="2056" y="2341"/>
                  </a:lnTo>
                  <a:lnTo>
                    <a:pt x="1962" y="2406"/>
                  </a:lnTo>
                  <a:lnTo>
                    <a:pt x="1859" y="2461"/>
                  </a:lnTo>
                  <a:lnTo>
                    <a:pt x="1756" y="2503"/>
                  </a:lnTo>
                  <a:lnTo>
                    <a:pt x="1646" y="2538"/>
                  </a:lnTo>
                  <a:lnTo>
                    <a:pt x="1533" y="2564"/>
                  </a:lnTo>
                  <a:lnTo>
                    <a:pt x="1420" y="2580"/>
                  </a:lnTo>
                  <a:lnTo>
                    <a:pt x="1307" y="2587"/>
                  </a:lnTo>
                  <a:lnTo>
                    <a:pt x="1194" y="2580"/>
                  </a:lnTo>
                  <a:lnTo>
                    <a:pt x="1078" y="2564"/>
                  </a:lnTo>
                  <a:lnTo>
                    <a:pt x="968" y="2541"/>
                  </a:lnTo>
                  <a:lnTo>
                    <a:pt x="858" y="2506"/>
                  </a:lnTo>
                  <a:lnTo>
                    <a:pt x="755" y="2461"/>
                  </a:lnTo>
                  <a:lnTo>
                    <a:pt x="652" y="2406"/>
                  </a:lnTo>
                  <a:lnTo>
                    <a:pt x="558" y="2344"/>
                  </a:lnTo>
                  <a:lnTo>
                    <a:pt x="468" y="2273"/>
                  </a:lnTo>
                  <a:lnTo>
                    <a:pt x="384" y="2193"/>
                  </a:lnTo>
                  <a:lnTo>
                    <a:pt x="310" y="2109"/>
                  </a:lnTo>
                  <a:lnTo>
                    <a:pt x="242" y="2015"/>
                  </a:lnTo>
                  <a:lnTo>
                    <a:pt x="184" y="1918"/>
                  </a:lnTo>
                  <a:lnTo>
                    <a:pt x="132" y="1815"/>
                  </a:lnTo>
                  <a:lnTo>
                    <a:pt x="90" y="1708"/>
                  </a:lnTo>
                  <a:lnTo>
                    <a:pt x="61" y="1598"/>
                  </a:lnTo>
                  <a:lnTo>
                    <a:pt x="39" y="1485"/>
                  </a:lnTo>
                  <a:lnTo>
                    <a:pt x="29" y="1369"/>
                  </a:lnTo>
                  <a:lnTo>
                    <a:pt x="29" y="1256"/>
                  </a:lnTo>
                  <a:lnTo>
                    <a:pt x="39" y="1143"/>
                  </a:lnTo>
                  <a:lnTo>
                    <a:pt x="58" y="1030"/>
                  </a:lnTo>
                  <a:lnTo>
                    <a:pt x="87" y="920"/>
                  </a:lnTo>
                  <a:lnTo>
                    <a:pt x="126" y="810"/>
                  </a:lnTo>
                  <a:lnTo>
                    <a:pt x="174" y="707"/>
                  </a:lnTo>
                  <a:lnTo>
                    <a:pt x="232" y="610"/>
                  </a:lnTo>
                  <a:lnTo>
                    <a:pt x="300" y="516"/>
                  </a:lnTo>
                  <a:lnTo>
                    <a:pt x="374" y="429"/>
                  </a:lnTo>
                  <a:lnTo>
                    <a:pt x="455" y="348"/>
                  </a:lnTo>
                  <a:lnTo>
                    <a:pt x="545" y="277"/>
                  </a:lnTo>
                  <a:lnTo>
                    <a:pt x="639" y="213"/>
                  </a:lnTo>
                  <a:lnTo>
                    <a:pt x="739" y="158"/>
                  </a:lnTo>
                  <a:lnTo>
                    <a:pt x="846" y="113"/>
                  </a:lnTo>
                  <a:lnTo>
                    <a:pt x="952" y="74"/>
                  </a:lnTo>
                  <a:lnTo>
                    <a:pt x="1065" y="48"/>
                  </a:lnTo>
                  <a:lnTo>
                    <a:pt x="1178" y="32"/>
                  </a:lnTo>
                  <a:lnTo>
                    <a:pt x="1291" y="26"/>
                  </a:lnTo>
                  <a:lnTo>
                    <a:pt x="1317" y="26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24120" y="2116080"/>
              <a:ext cx="4145040" cy="4146480"/>
            </a:xfrm>
            <a:prstGeom prst="ellipse">
              <a:avLst/>
            </a:prstGeom>
            <a:noFill/>
            <a:ln w="0">
              <a:solidFill>
                <a:srgbClr val="cc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70200" y="2157480"/>
              <a:ext cx="4057560" cy="4059000"/>
            </a:xfrm>
            <a:prstGeom prst="ellipse">
              <a:avLst/>
            </a:prstGeom>
            <a:noFill/>
            <a:ln w="0">
              <a:solidFill>
                <a:srgbClr val="cc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4815000" y="2115720"/>
              <a:ext cx="1440" cy="41400"/>
            </a:xfrm>
            <a:prstGeom prst="line">
              <a:avLst/>
            </a:prstGeom>
            <a:ln w="0">
              <a:solidFill>
                <a:srgbClr val="cc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56920" y="3859200"/>
              <a:ext cx="1730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Verdana"/>
                </a:rPr>
                <a:t>pGR106 new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66440" y="4268880"/>
              <a:ext cx="81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Georgia"/>
                </a:rPr>
                <a:t>11107 b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83400" y="2475720"/>
              <a:ext cx="3427560" cy="342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69" y="1192"/>
                  </a:moveTo>
                  <a:arcTo wR="10800" hR="10800" stAng="-7030136" swAng="1509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5869" y="1192"/>
                  </a:moveTo>
                  <a:arcTo wR="10800" hR="10800" stAng="-7030136" swAng="1509172"/>
                </a:path>
              </a:pathLst>
            </a:custGeom>
            <a:noFill/>
            <a:ln w="30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27600" y="725400"/>
              <a:ext cx="436320" cy="180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6560" y="490680"/>
              <a:ext cx="100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ser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22760" y="3459240"/>
              <a:ext cx="3213000" cy="2865240"/>
            </a:xfrm>
            <a:custGeom>
              <a:avLst/>
              <a:gdLst/>
              <a:ahLst/>
              <a:rect l="l" t="t" r="r" b="b"/>
              <a:pathLst>
                <a:path w="2024" h="1805">
                  <a:moveTo>
                    <a:pt x="120" y="1518"/>
                  </a:moveTo>
                  <a:lnTo>
                    <a:pt x="0" y="1563"/>
                  </a:lnTo>
                  <a:lnTo>
                    <a:pt x="29" y="1689"/>
                  </a:lnTo>
                  <a:lnTo>
                    <a:pt x="52" y="1650"/>
                  </a:lnTo>
                  <a:lnTo>
                    <a:pt x="158" y="1702"/>
                  </a:lnTo>
                  <a:lnTo>
                    <a:pt x="271" y="1744"/>
                  </a:lnTo>
                  <a:lnTo>
                    <a:pt x="388" y="1776"/>
                  </a:lnTo>
                  <a:lnTo>
                    <a:pt x="507" y="1795"/>
                  </a:lnTo>
                  <a:lnTo>
                    <a:pt x="626" y="1805"/>
                  </a:lnTo>
                  <a:lnTo>
                    <a:pt x="746" y="1805"/>
                  </a:lnTo>
                  <a:lnTo>
                    <a:pt x="869" y="1792"/>
                  </a:lnTo>
                  <a:lnTo>
                    <a:pt x="985" y="1770"/>
                  </a:lnTo>
                  <a:lnTo>
                    <a:pt x="1101" y="1737"/>
                  </a:lnTo>
                  <a:lnTo>
                    <a:pt x="1214" y="1695"/>
                  </a:lnTo>
                  <a:lnTo>
                    <a:pt x="1320" y="1640"/>
                  </a:lnTo>
                  <a:lnTo>
                    <a:pt x="1424" y="1579"/>
                  </a:lnTo>
                  <a:lnTo>
                    <a:pt x="1521" y="1508"/>
                  </a:lnTo>
                  <a:lnTo>
                    <a:pt x="1611" y="1427"/>
                  </a:lnTo>
                  <a:lnTo>
                    <a:pt x="1695" y="1340"/>
                  </a:lnTo>
                  <a:lnTo>
                    <a:pt x="1769" y="1246"/>
                  </a:lnTo>
                  <a:lnTo>
                    <a:pt x="1837" y="1146"/>
                  </a:lnTo>
                  <a:lnTo>
                    <a:pt x="1892" y="1040"/>
                  </a:lnTo>
                  <a:lnTo>
                    <a:pt x="1940" y="930"/>
                  </a:lnTo>
                  <a:lnTo>
                    <a:pt x="1976" y="814"/>
                  </a:lnTo>
                  <a:lnTo>
                    <a:pt x="2002" y="697"/>
                  </a:lnTo>
                  <a:lnTo>
                    <a:pt x="2018" y="578"/>
                  </a:lnTo>
                  <a:lnTo>
                    <a:pt x="2024" y="458"/>
                  </a:lnTo>
                  <a:lnTo>
                    <a:pt x="2018" y="336"/>
                  </a:lnTo>
                  <a:lnTo>
                    <a:pt x="2002" y="216"/>
                  </a:lnTo>
                  <a:lnTo>
                    <a:pt x="1976" y="100"/>
                  </a:lnTo>
                  <a:lnTo>
                    <a:pt x="1943" y="0"/>
                  </a:lnTo>
                  <a:lnTo>
                    <a:pt x="1843" y="39"/>
                  </a:lnTo>
                  <a:lnTo>
                    <a:pt x="1876" y="142"/>
                  </a:lnTo>
                  <a:lnTo>
                    <a:pt x="1898" y="252"/>
                  </a:lnTo>
                  <a:lnTo>
                    <a:pt x="1914" y="362"/>
                  </a:lnTo>
                  <a:lnTo>
                    <a:pt x="1918" y="471"/>
                  </a:lnTo>
                  <a:lnTo>
                    <a:pt x="1911" y="584"/>
                  </a:lnTo>
                  <a:lnTo>
                    <a:pt x="1895" y="694"/>
                  </a:lnTo>
                  <a:lnTo>
                    <a:pt x="1869" y="801"/>
                  </a:lnTo>
                  <a:lnTo>
                    <a:pt x="1834" y="904"/>
                  </a:lnTo>
                  <a:lnTo>
                    <a:pt x="1788" y="1007"/>
                  </a:lnTo>
                  <a:lnTo>
                    <a:pt x="1737" y="1104"/>
                  </a:lnTo>
                  <a:lnTo>
                    <a:pt x="1676" y="1198"/>
                  </a:lnTo>
                  <a:lnTo>
                    <a:pt x="1605" y="1282"/>
                  </a:lnTo>
                  <a:lnTo>
                    <a:pt x="1527" y="1363"/>
                  </a:lnTo>
                  <a:lnTo>
                    <a:pt x="1443" y="1434"/>
                  </a:lnTo>
                  <a:lnTo>
                    <a:pt x="1353" y="1498"/>
                  </a:lnTo>
                  <a:lnTo>
                    <a:pt x="1259" y="1556"/>
                  </a:lnTo>
                  <a:lnTo>
                    <a:pt x="1159" y="1602"/>
                  </a:lnTo>
                  <a:lnTo>
                    <a:pt x="1053" y="1640"/>
                  </a:lnTo>
                  <a:lnTo>
                    <a:pt x="946" y="1669"/>
                  </a:lnTo>
                  <a:lnTo>
                    <a:pt x="836" y="1689"/>
                  </a:lnTo>
                  <a:lnTo>
                    <a:pt x="727" y="1699"/>
                  </a:lnTo>
                  <a:lnTo>
                    <a:pt x="617" y="1699"/>
                  </a:lnTo>
                  <a:lnTo>
                    <a:pt x="507" y="1689"/>
                  </a:lnTo>
                  <a:lnTo>
                    <a:pt x="397" y="1666"/>
                  </a:lnTo>
                  <a:lnTo>
                    <a:pt x="291" y="1637"/>
                  </a:lnTo>
                  <a:lnTo>
                    <a:pt x="188" y="1598"/>
                  </a:lnTo>
                  <a:lnTo>
                    <a:pt x="100" y="1556"/>
                  </a:lnTo>
                  <a:lnTo>
                    <a:pt x="120" y="1518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3280" y="2050560"/>
              <a:ext cx="4272120" cy="427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53" y="7117"/>
                  </a:moveTo>
                  <a:arcTo wR="10800" hR="10800" stAng="-1196176" swAng="82603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53" y="7117"/>
                  </a:moveTo>
                  <a:arcTo wR="10800" hR="10800" stAng="-1196176" swAng="826031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33200" y="2218320"/>
              <a:ext cx="3934080" cy="393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0" y="7137"/>
                  </a:moveTo>
                  <a:arcTo wR="10800" hR="10800" stAng="-1189557" swAng="8260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0" y="7137"/>
                  </a:moveTo>
                  <a:arcTo wR="10800" hR="10800" stAng="-1189557" swAng="8260216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648480" y="3459240"/>
              <a:ext cx="158760" cy="6192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22760" y="5869080"/>
              <a:ext cx="190440" cy="27144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1" y="12"/>
                  </a:moveTo>
                  <a:lnTo>
                    <a:pt x="37" y="0"/>
                  </a:lnTo>
                  <a:lnTo>
                    <a:pt x="0" y="14"/>
                  </a:lnTo>
                  <a:lnTo>
                    <a:pt x="9" y="53"/>
                  </a:lnTo>
                  <a:lnTo>
                    <a:pt x="16" y="41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6146280" y="5843160"/>
              <a:ext cx="45108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0000" y="5734080"/>
              <a:ext cx="10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lic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92400" y="5381640"/>
              <a:ext cx="646200" cy="609480"/>
            </a:xfrm>
            <a:custGeom>
              <a:avLst/>
              <a:gdLst/>
              <a:ahLst/>
              <a:rect l="l" t="t" r="r" b="b"/>
              <a:pathLst>
                <a:path w="407" h="384">
                  <a:moveTo>
                    <a:pt x="149" y="6"/>
                  </a:moveTo>
                  <a:lnTo>
                    <a:pt x="23" y="0"/>
                  </a:lnTo>
                  <a:lnTo>
                    <a:pt x="0" y="126"/>
                  </a:lnTo>
                  <a:lnTo>
                    <a:pt x="33" y="100"/>
                  </a:lnTo>
                  <a:lnTo>
                    <a:pt x="113" y="190"/>
                  </a:lnTo>
                  <a:lnTo>
                    <a:pt x="200" y="271"/>
                  </a:lnTo>
                  <a:lnTo>
                    <a:pt x="294" y="345"/>
                  </a:lnTo>
                  <a:lnTo>
                    <a:pt x="352" y="384"/>
                  </a:lnTo>
                  <a:lnTo>
                    <a:pt x="407" y="294"/>
                  </a:lnTo>
                  <a:lnTo>
                    <a:pt x="317" y="232"/>
                  </a:lnTo>
                  <a:lnTo>
                    <a:pt x="233" y="158"/>
                  </a:lnTo>
                  <a:lnTo>
                    <a:pt x="155" y="81"/>
                  </a:lnTo>
                  <a:lnTo>
                    <a:pt x="113" y="32"/>
                  </a:lnTo>
                  <a:lnTo>
                    <a:pt x="149" y="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2920" y="2050200"/>
              <a:ext cx="4272480" cy="427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00" y="19910"/>
                  </a:moveTo>
                  <a:arcTo wR="10800" hR="10800" stAng="7349046" swAng="1095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5000" y="19910"/>
                  </a:moveTo>
                  <a:arcTo wR="10800" hR="10800" stAng="7349046" swAng="1095294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32120" y="2218320"/>
              <a:ext cx="3936600" cy="39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78" y="19896"/>
                  </a:moveTo>
                  <a:arcTo wR="10800" hR="10800" stAng="7357387" swAng="10949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978" y="19896"/>
                  </a:moveTo>
                  <a:arcTo wR="10800" hR="10800" stAng="7357387" swAng="1094981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650760" y="5848200"/>
              <a:ext cx="87480" cy="14292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2400" y="5381640"/>
              <a:ext cx="236520" cy="20016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35" y="10"/>
                  </a:moveTo>
                  <a:lnTo>
                    <a:pt x="46" y="2"/>
                  </a:lnTo>
                  <a:lnTo>
                    <a:pt x="7" y="0"/>
                  </a:lnTo>
                  <a:lnTo>
                    <a:pt x="0" y="39"/>
                  </a:lnTo>
                  <a:lnTo>
                    <a:pt x="10" y="31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944800" y="5740200"/>
              <a:ext cx="384120" cy="84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07120" y="657216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70160" y="4910040"/>
              <a:ext cx="312840" cy="338400"/>
            </a:xfrm>
            <a:custGeom>
              <a:avLst/>
              <a:gdLst/>
              <a:ahLst/>
              <a:rect l="l" t="t" r="r" b="b"/>
              <a:pathLst>
                <a:path w="197" h="213">
                  <a:moveTo>
                    <a:pt x="168" y="29"/>
                  </a:moveTo>
                  <a:lnTo>
                    <a:pt x="45" y="0"/>
                  </a:lnTo>
                  <a:lnTo>
                    <a:pt x="0" y="122"/>
                  </a:lnTo>
                  <a:lnTo>
                    <a:pt x="38" y="100"/>
                  </a:lnTo>
                  <a:lnTo>
                    <a:pt x="97" y="197"/>
                  </a:lnTo>
                  <a:lnTo>
                    <a:pt x="109" y="213"/>
                  </a:lnTo>
                  <a:lnTo>
                    <a:pt x="197" y="152"/>
                  </a:lnTo>
                  <a:lnTo>
                    <a:pt x="142" y="68"/>
                  </a:lnTo>
                  <a:lnTo>
                    <a:pt x="132" y="48"/>
                  </a:lnTo>
                  <a:lnTo>
                    <a:pt x="168" y="29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00600" y="2389320"/>
              <a:ext cx="3597120" cy="359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9" y="17157"/>
                  </a:moveTo>
                  <a:arcTo wR="10800" hR="10800" stAng="8636406" swAng="40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9" y="17157"/>
                  </a:moveTo>
                  <a:arcTo wR="10800" hR="10800" stAng="8636406" swAng="40476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0160" y="2554920"/>
              <a:ext cx="3260520" cy="32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6" y="17180"/>
                  </a:moveTo>
                  <a:arcTo wR="10800" hR="10800" stAng="8627364" swAng="410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6" y="17180"/>
                  </a:moveTo>
                  <a:arcTo wR="10800" hR="10800" stAng="8627364" swAng="410246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343320" y="5151600"/>
              <a:ext cx="139680" cy="9684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70160" y="4910040"/>
              <a:ext cx="266760" cy="1936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1" y="15"/>
                  </a:moveTo>
                  <a:lnTo>
                    <a:pt x="52" y="9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12" y="31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549520" y="5099040"/>
              <a:ext cx="696960" cy="11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11840" y="621360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9560" y="4894200"/>
              <a:ext cx="277920" cy="2667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175" y="36"/>
                  </a:moveTo>
                  <a:lnTo>
                    <a:pt x="58" y="0"/>
                  </a:lnTo>
                  <a:lnTo>
                    <a:pt x="0" y="110"/>
                  </a:lnTo>
                  <a:lnTo>
                    <a:pt x="39" y="94"/>
                  </a:lnTo>
                  <a:lnTo>
                    <a:pt x="71" y="168"/>
                  </a:lnTo>
                  <a:lnTo>
                    <a:pt x="168" y="120"/>
                  </a:lnTo>
                  <a:lnTo>
                    <a:pt x="136" y="52"/>
                  </a:lnTo>
                  <a:lnTo>
                    <a:pt x="175" y="3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2920" y="2050200"/>
              <a:ext cx="4272480" cy="427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" y="15708"/>
                  </a:moveTo>
                  <a:arcTo wR="10800" hR="10800" stAng="9178109" swAng="2056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" y="15708"/>
                  </a:moveTo>
                  <a:arcTo wR="10800" hR="10800" stAng="9178109" swAng="20562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33200" y="2220120"/>
              <a:ext cx="3934800" cy="393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2" y="15714"/>
                  </a:moveTo>
                  <a:arcTo wR="10800" hR="10800" stAng="9176251" swAng="2081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2" y="15714"/>
                  </a:moveTo>
                  <a:arcTo wR="10800" hR="10800" stAng="9176251" swAng="208114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892240" y="5084640"/>
              <a:ext cx="153720" cy="7632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9560" y="4894200"/>
              <a:ext cx="277920" cy="174600"/>
            </a:xfrm>
            <a:custGeom>
              <a:avLst/>
              <a:gdLst/>
              <a:ahLst/>
              <a:rect l="l" t="t" r="r" b="b"/>
              <a:pathLst>
                <a:path w="54" h="34">
                  <a:moveTo>
                    <a:pt x="42" y="16"/>
                  </a:moveTo>
                  <a:lnTo>
                    <a:pt x="54" y="11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12" y="29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441520" y="5043240"/>
              <a:ext cx="399960" cy="81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640" y="58770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5600" y="3967200"/>
              <a:ext cx="317520" cy="844560"/>
            </a:xfrm>
            <a:custGeom>
              <a:avLst/>
              <a:gdLst/>
              <a:ahLst/>
              <a:rect l="l" t="t" r="r" b="b"/>
              <a:pathLst>
                <a:path w="200" h="532">
                  <a:moveTo>
                    <a:pt x="191" y="90"/>
                  </a:moveTo>
                  <a:lnTo>
                    <a:pt x="103" y="0"/>
                  </a:lnTo>
                  <a:lnTo>
                    <a:pt x="0" y="80"/>
                  </a:lnTo>
                  <a:lnTo>
                    <a:pt x="42" y="84"/>
                  </a:lnTo>
                  <a:lnTo>
                    <a:pt x="42" y="203"/>
                  </a:lnTo>
                  <a:lnTo>
                    <a:pt x="55" y="322"/>
                  </a:lnTo>
                  <a:lnTo>
                    <a:pt x="74" y="442"/>
                  </a:lnTo>
                  <a:lnTo>
                    <a:pt x="100" y="532"/>
                  </a:lnTo>
                  <a:lnTo>
                    <a:pt x="200" y="500"/>
                  </a:lnTo>
                  <a:lnTo>
                    <a:pt x="174" y="394"/>
                  </a:lnTo>
                  <a:lnTo>
                    <a:pt x="155" y="284"/>
                  </a:lnTo>
                  <a:lnTo>
                    <a:pt x="149" y="174"/>
                  </a:lnTo>
                  <a:lnTo>
                    <a:pt x="149" y="87"/>
                  </a:lnTo>
                  <a:lnTo>
                    <a:pt x="191" y="9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62200" y="2048760"/>
              <a:ext cx="4273200" cy="427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0" y="13951"/>
                  </a:moveTo>
                  <a:arcTo wR="10800" hR="10800" stAng="9782263" swAng="11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470" y="13951"/>
                  </a:moveTo>
                  <a:arcTo wR="10800" hR="10800" stAng="9782263" swAng="1158079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32120" y="2219760"/>
              <a:ext cx="3936240" cy="39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5" y="13935"/>
                  </a:moveTo>
                  <a:arcTo wR="10800" hR="10800" stAng="9787421" swAng="1156542"/>
                  <a:lnTo>
                    <a:pt x="10800" y="10800"/>
                  </a:lnTo>
                  <a:close/>
                </a:path>
                <a:path fill="none" w="21600" h="21600">
                  <a:moveTo>
                    <a:pt x="465" y="13935"/>
                  </a:moveTo>
                  <a:arcTo wR="10800" hR="10800" stAng="9787421" swAng="1156542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754000" y="4761000"/>
              <a:ext cx="158760" cy="5076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5600" y="3967200"/>
              <a:ext cx="303120" cy="1429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46" y="27"/>
                  </a:moveTo>
                  <a:lnTo>
                    <a:pt x="59" y="28"/>
                  </a:lnTo>
                  <a:lnTo>
                    <a:pt x="32" y="0"/>
                  </a:lnTo>
                  <a:lnTo>
                    <a:pt x="0" y="25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3640" y="3227400"/>
              <a:ext cx="369720" cy="1165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79640" y="29973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719440" y="4838400"/>
              <a:ext cx="301680" cy="11268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401920" y="4951080"/>
              <a:ext cx="317520" cy="55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280" y="5445000"/>
              <a:ext cx="9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 p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687760" y="4750920"/>
              <a:ext cx="303120" cy="9684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06600" y="3587760"/>
              <a:ext cx="281160" cy="126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000" y="3429000"/>
              <a:ext cx="9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 p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708280" y="4811760"/>
              <a:ext cx="303120" cy="10800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56040" y="1992240"/>
              <a:ext cx="943200" cy="457200"/>
            </a:xfrm>
            <a:custGeom>
              <a:avLst/>
              <a:gdLst/>
              <a:ahLst/>
              <a:rect l="l" t="t" r="r" b="b"/>
              <a:pathLst>
                <a:path w="594" h="288">
                  <a:moveTo>
                    <a:pt x="594" y="194"/>
                  </a:moveTo>
                  <a:lnTo>
                    <a:pt x="487" y="142"/>
                  </a:lnTo>
                  <a:lnTo>
                    <a:pt x="374" y="100"/>
                  </a:lnTo>
                  <a:lnTo>
                    <a:pt x="258" y="68"/>
                  </a:lnTo>
                  <a:lnTo>
                    <a:pt x="138" y="49"/>
                  </a:lnTo>
                  <a:lnTo>
                    <a:pt x="87" y="42"/>
                  </a:lnTo>
                  <a:lnTo>
                    <a:pt x="93" y="0"/>
                  </a:lnTo>
                  <a:lnTo>
                    <a:pt x="0" y="91"/>
                  </a:lnTo>
                  <a:lnTo>
                    <a:pt x="74" y="191"/>
                  </a:lnTo>
                  <a:lnTo>
                    <a:pt x="77" y="149"/>
                  </a:lnTo>
                  <a:lnTo>
                    <a:pt x="187" y="165"/>
                  </a:lnTo>
                  <a:lnTo>
                    <a:pt x="297" y="187"/>
                  </a:lnTo>
                  <a:lnTo>
                    <a:pt x="400" y="223"/>
                  </a:lnTo>
                  <a:lnTo>
                    <a:pt x="503" y="268"/>
                  </a:lnTo>
                  <a:lnTo>
                    <a:pt x="545" y="288"/>
                  </a:lnTo>
                  <a:lnTo>
                    <a:pt x="594" y="194"/>
                  </a:lnTo>
                  <a:close/>
                </a:path>
              </a:pathLst>
            </a:custGeom>
            <a:solidFill>
              <a:srgbClr val="66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4000" y="2050200"/>
              <a:ext cx="4270320" cy="427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87" y="45"/>
                  </a:moveTo>
                  <a:arcTo wR="10800" hR="10800" stAng="-5085445" swAng="1361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87" y="45"/>
                  </a:moveTo>
                  <a:arcTo wR="10800" hR="10800" stAng="-5085445" swAng="1361005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31400" y="2219400"/>
              <a:ext cx="3938040" cy="39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77" y="44"/>
                  </a:moveTo>
                  <a:arcTo wR="10800" hR="10800" stAng="-5088587" swAng="1364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77" y="44"/>
                  </a:moveTo>
                  <a:arcTo wR="10800" hR="10800" stAng="-5088587" swAng="1364291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721480" y="2300400"/>
              <a:ext cx="77760" cy="14904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1992240"/>
              <a:ext cx="147600" cy="30312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4" y="46"/>
                  </a:moveTo>
                  <a:lnTo>
                    <a:pt x="23" y="59"/>
                  </a:lnTo>
                  <a:lnTo>
                    <a:pt x="0" y="28"/>
                  </a:lnTo>
                  <a:lnTo>
                    <a:pt x="29" y="0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342040" y="1797120"/>
              <a:ext cx="250560" cy="32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03400" y="156204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p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74840" y="2443320"/>
              <a:ext cx="487440" cy="457200"/>
            </a:xfrm>
            <a:custGeom>
              <a:avLst/>
              <a:gdLst/>
              <a:ahLst/>
              <a:rect l="l" t="t" r="r" b="b"/>
              <a:pathLst>
                <a:path w="307" h="288">
                  <a:moveTo>
                    <a:pt x="245" y="0"/>
                  </a:moveTo>
                  <a:lnTo>
                    <a:pt x="148" y="75"/>
                  </a:lnTo>
                  <a:lnTo>
                    <a:pt x="61" y="155"/>
                  </a:lnTo>
                  <a:lnTo>
                    <a:pt x="32" y="188"/>
                  </a:lnTo>
                  <a:lnTo>
                    <a:pt x="0" y="159"/>
                  </a:lnTo>
                  <a:lnTo>
                    <a:pt x="16" y="288"/>
                  </a:lnTo>
                  <a:lnTo>
                    <a:pt x="142" y="288"/>
                  </a:lnTo>
                  <a:lnTo>
                    <a:pt x="110" y="259"/>
                  </a:lnTo>
                  <a:lnTo>
                    <a:pt x="190" y="181"/>
                  </a:lnTo>
                  <a:lnTo>
                    <a:pt x="274" y="110"/>
                  </a:lnTo>
                  <a:lnTo>
                    <a:pt x="307" y="8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6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2920" y="2050200"/>
              <a:ext cx="4272480" cy="427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48" y="3492"/>
                  </a:moveTo>
                  <a:arcTo wR="10800" hR="10800" stAng="-8245146" swAng="726826"/>
                  <a:lnTo>
                    <a:pt x="10800" y="10800"/>
                  </a:lnTo>
                  <a:close/>
                </a:path>
                <a:path fill="none" w="21600" h="21600">
                  <a:moveTo>
                    <a:pt x="2848" y="3492"/>
                  </a:moveTo>
                  <a:arcTo wR="10800" hR="10800" stAng="-8245146" swAng="726826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33200" y="2217960"/>
              <a:ext cx="3934800" cy="393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45" y="3495"/>
                  </a:moveTo>
                  <a:arcTo wR="10800" hR="10800" stAng="-8246331" swAng="724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45" y="3495"/>
                  </a:moveTo>
                  <a:arcTo wR="10800" hR="10800" stAng="-8246331" swAng="72437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563640" y="2443320"/>
              <a:ext cx="98280" cy="13968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4840" y="2695680"/>
              <a:ext cx="225720" cy="204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34" y="31"/>
                  </a:moveTo>
                  <a:lnTo>
                    <a:pt x="44" y="40"/>
                  </a:lnTo>
                  <a:lnTo>
                    <a:pt x="5" y="40"/>
                  </a:lnTo>
                  <a:lnTo>
                    <a:pt x="0" y="0"/>
                  </a:lnTo>
                  <a:lnTo>
                    <a:pt x="10" y="9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78200" y="1438200"/>
              <a:ext cx="455400" cy="119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3200" y="1203480"/>
              <a:ext cx="182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Sa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in rev orientatio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289200" y="2833560"/>
              <a:ext cx="257400" cy="19548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546960" y="2833200"/>
              <a:ext cx="3636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263376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67200" y="2813040"/>
              <a:ext cx="250560" cy="20016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98920" y="2157480"/>
              <a:ext cx="36828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4360" y="192240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64040" y="2700360"/>
              <a:ext cx="236520" cy="21420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0720" y="1797120"/>
              <a:ext cx="373320" cy="90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82800" y="1562040"/>
              <a:ext cx="90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bp dele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6360" y="1976400"/>
              <a:ext cx="15840" cy="31896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35560" y="366840"/>
              <a:ext cx="280800" cy="16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22800" y="13176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3480" y="2362320"/>
              <a:ext cx="185400" cy="26676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59000" y="1079640"/>
              <a:ext cx="384480" cy="128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6240" y="84456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06760" y="3879720"/>
              <a:ext cx="317520" cy="39960"/>
            </a:xfrm>
            <a:prstGeom prst="line">
              <a:avLst/>
            </a:prstGeom>
            <a:ln w="30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78080" y="2868480"/>
              <a:ext cx="32868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1640" y="2637000"/>
              <a:ext cx="71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5600" y="3110040"/>
              <a:ext cx="353880" cy="42048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52" y="230"/>
                  </a:moveTo>
                  <a:lnTo>
                    <a:pt x="171" y="265"/>
                  </a:lnTo>
                  <a:lnTo>
                    <a:pt x="223" y="142"/>
                  </a:lnTo>
                  <a:lnTo>
                    <a:pt x="184" y="162"/>
                  </a:lnTo>
                  <a:lnTo>
                    <a:pt x="129" y="65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55" y="149"/>
                  </a:lnTo>
                  <a:lnTo>
                    <a:pt x="91" y="210"/>
                  </a:lnTo>
                  <a:lnTo>
                    <a:pt x="52" y="2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0600" y="2388960"/>
              <a:ext cx="3596760" cy="359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47" y="4329"/>
                  </a:moveTo>
                  <a:arcTo wR="10800" hR="10800" stAng="-2208432" swAng="57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47" y="4329"/>
                  </a:moveTo>
                  <a:arcTo wR="10800" hR="10800" stAng="-2208432" swAng="578474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0520" y="2555640"/>
              <a:ext cx="3259800" cy="32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59" y="4346"/>
                  </a:moveTo>
                  <a:arcTo wR="10800" hR="10800" stAng="-2202004" swAng="574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59" y="4346"/>
                  </a:moveTo>
                  <a:arcTo wR="10800" hR="10800" stAng="-2202004" swAng="574315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105600" y="3110040"/>
              <a:ext cx="13320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88040" y="3335400"/>
              <a:ext cx="271440" cy="19512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12" y="21"/>
                  </a:moveTo>
                  <a:lnTo>
                    <a:pt x="0" y="27"/>
                  </a:lnTo>
                  <a:lnTo>
                    <a:pt x="37" y="38"/>
                  </a:lnTo>
                  <a:lnTo>
                    <a:pt x="53" y="0"/>
                  </a:lnTo>
                  <a:lnTo>
                    <a:pt x="4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362280" y="3227400"/>
              <a:ext cx="7016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93080" y="3068640"/>
              <a:ext cx="105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5S P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83400" y="2477160"/>
              <a:ext cx="3427920" cy="34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" y="9140"/>
                  </a:moveTo>
                  <a:arcTo wR="10800" hR="10800" stAng="-10269663" swAng="552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" y="9140"/>
                  </a:moveTo>
                  <a:arcTo wR="10800" hR="10800" stAng="-10269663" swAng="552098"/>
                </a:path>
              </a:pathLst>
            </a:custGeom>
            <a:noFill/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93920" y="2516040"/>
              <a:ext cx="835200" cy="127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4280" y="2281320"/>
              <a:ext cx="105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os 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708280" y="4811400"/>
              <a:ext cx="303120" cy="10332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462040" y="4915080"/>
              <a:ext cx="246240" cy="8712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13800" y="480708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800000"/>
                  </a:solidFill>
                  <a:latin typeface="Georgia"/>
                </a:rPr>
                <a:t>Cl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59320" y="480708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34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703600" y="4791240"/>
              <a:ext cx="301680" cy="10296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95440" y="4284720"/>
              <a:ext cx="308160" cy="60948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91760" y="408924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800000"/>
                  </a:solidFill>
                  <a:latin typeface="Georgia"/>
                </a:rPr>
                <a:t>No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83720" y="408924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53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698920" y="4781160"/>
              <a:ext cx="301320" cy="10332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01920" y="3930480"/>
              <a:ext cx="297000" cy="95436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51520" y="3735360"/>
              <a:ext cx="27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800000"/>
                  </a:solidFill>
                  <a:latin typeface="Georgia"/>
                </a:rPr>
                <a:t>S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04960" y="37353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60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703600" y="4802040"/>
              <a:ext cx="307800" cy="10800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1000" y="4643280"/>
              <a:ext cx="282600" cy="26676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3520" y="4448160"/>
              <a:ext cx="316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800000"/>
                  </a:solidFill>
                  <a:latin typeface="Georgia"/>
                </a:rPr>
                <a:t>As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22600" y="4448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4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4:35:21Z</dcterms:created>
  <dc:creator>chappell</dc:creator>
  <dc:description/>
  <dc:language>en-US</dc:language>
  <cp:lastModifiedBy>chappell</cp:lastModifiedBy>
  <dcterms:modified xsi:type="dcterms:W3CDTF">2006-06-05T14:35:39Z</dcterms:modified>
  <cp:revision>1</cp:revision>
  <dc:subject/>
  <dc:title>Slide 1</dc:title>
</cp:coreProperties>
</file>